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50917"/>
        <c:axId val="18606503"/>
      </c:barChart>
      <c:catAx>
        <c:axId val="56250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06503"/>
        <c:crosses val="autoZero"/>
        <c:auto val="1"/>
        <c:lblAlgn val="ctr"/>
        <c:lblOffset val="100"/>
        <c:noMultiLvlLbl val="0"/>
      </c:catAx>
      <c:valAx>
        <c:axId val="18606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50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0C6-EA9A-4431-BF51-3420064D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5ED-2AB4-445D-AF4C-D73E811F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A67-5A82-41BA-8F1E-E24CDFE8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2D8-DB58-4BA4-80F6-B017FE72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AAA-213C-40AC-8601-1C2B7CD1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A92-F0F0-4FFC-8C5F-2DD214D5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192-8F25-4944-B575-DBA90A03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38E-4F55-4436-8229-61E4BF1D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F54-636E-44B3-8D9B-0378D59E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2B7-38FE-490B-863D-161A10B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C28-8C6B-46D5-9523-035378CA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F46-1A63-43A3-AD5C-A8C40E8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1F0D6-8F8E-49E0-9DC1-F1C9F8ABC8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